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F1E-A0C1-430B-A85A-58F23951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458-269C-48A3-A20E-F47014C1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638-7753-47FF-9DFE-BB6C81B4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FF4-F52A-4E73-8273-F5F7CFDC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56C2-993F-49D1-8CFA-451CC5D6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B36-56EB-47A4-923C-025D06DB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0162-BCDD-4EF5-90FA-01E9D691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073-4BE3-4602-9B96-D79CA0C4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57A-FFA1-401D-A8F5-45D8B5AD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6806-3E40-43A7-8130-B2D37218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1C09-41D1-4658-BC1D-C677BE6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1BE-D505-45AD-89DA-67C2FBA6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72B1-AE1E-4D2E-8CBC-154927E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474-BA2F-4F3B-B096-3FCFA024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E721-1F5D-488B-86B9-FFF3F93E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9369-185D-43C6-BB58-E6A7CD2E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5B4E-623B-4680-8C69-ADF47032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FAC-AF77-46E8-A898-C4DE0B9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564-0DAE-44CE-898C-ABB7D0A8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8FE-54C8-4BE9-A4CD-9FA42282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D7C-69B3-4687-9C66-7EF52951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315-4349-47F6-9328-FD6B0469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46B-6F5A-454A-BE8D-85A24A2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63B-33EE-46F5-856D-F87D4E56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0A94-821C-4625-B4FF-6A71B6C044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4FD3-04F0-4EA9-8115-97218F704C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cKenneman, Inc.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RAM Propos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 Tea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ay Hoff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ry Kenne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landa McCulloug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nse Amp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27240" y="1827360"/>
            <a:ext cx="399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nse Amp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1 microns wi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igned to be same width as bitcell so it can be easily wired to the ar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:16 Deco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85840" y="1827360"/>
            <a:ext cx="588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:16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 2:4 decoders combi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 of these make up 7:128 deco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microns long to connect with buffers to the memory ar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80960" y="2792520"/>
            <a:ext cx="7290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tatist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 estimated to be 5478 microns by 1415 micr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e Area: 7,751,370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ludes memory array, 7:128 decoder, WL buffers, precharge, sense amps, output buff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a room estimated for registers, tri-state buffers, smaller logic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M Bitcell Simul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25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ngth of the side of largest square inside cur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st Case: S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: .65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ld: .94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st Case: 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: .48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ld: .79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7920" y="2589120"/>
            <a:ext cx="3995640" cy="2398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5105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case for a SF bit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im for a Read/Write/Re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49440" y="1827360"/>
            <a:ext cx="515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im Notes R/W/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line shows CLK and Output of Tri-state buffer after a re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line show BL(blue) and BLB(red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line shows Sense Amps firing and their outp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line shows WL enabled inside of prech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line shows read/write sign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x Access Simul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73200" y="1827360"/>
            <a:ext cx="6838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ign Approa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ma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k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op-level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you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itcell Layou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ipheral and Block Layou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NM simulations of bitc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k simula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lems Encounter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tric Analys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6 Access for bloc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es a one into a block and reads it 5 times for total average power of 31 m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time for D-Q is 15.5 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output is latched on rising clock edge, with 2.5ns to propagate through register and tri-state buffe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blems Encounter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ck distribu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nough clock delays to fire sense amps at the correct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laying and buffering the prechar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low simulation ti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ring and reducing layou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ric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erage power of 1 write and 5 reads: .031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st delay: 13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Area: 32*(7,751,370 microns^2) = 248,043,840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ric= (Watts^2)*(delay in ns)*(area in um^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cKenneman’s Score=3.099E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cKenneman, Inc. has developed an efficient and power saving SRAM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Fea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 voltage op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 for controllability and observabi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lock enable signal power gates idle bloc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ign Approac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 Power SRAM running at Vdd = 2.5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gating on idle bloc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Mb of mem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de of 32 blocks of 128x256 bi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2bit words addressed with 15bi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oltage sense amp to reduce precharge pow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imizing bitcell layout to reduce overall si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chema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08200" y="1827360"/>
            <a:ext cx="69753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:128 row address decoder raises the W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:8 decoder selects the 32 columns to when writing to the mem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ach bitline has a sense amp to reduce the time each WL is enabled and reduce the amount of precharg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hain of 32 8:1 muxes after the sense amps selects the word on a read op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register latches the block output and is wired to a tri-state buffer, allowing all blocks to share one SRAM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p-Level Schema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38200" y="1827360"/>
            <a:ext cx="72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p-Leve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bits of address choose the bloc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ad, Write, and input addresses are held by regis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ying the philosophy of designing for controllability, precharge and sense amp enable are pinned o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ing for observability, a sense amp’s output is pinned out for timing verif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1600" y="1965240"/>
            <a:ext cx="683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: 19.8 microns by 8.4 micr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a: 166.32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a is saved in the array by overlapping mirrored bitcells every other row to share ground and vdd connec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4:05:04Z</dcterms:created>
  <dc:creator>ITC Labs and Classrooms</dc:creator>
  <dc:description/>
  <dc:language>en-US</dc:language>
  <cp:lastModifiedBy>ITC Labs and Classrooms</cp:lastModifiedBy>
  <dcterms:modified xsi:type="dcterms:W3CDTF">2007-12-06T18:27:41Z</dcterms:modified>
  <cp:revision>5</cp:revision>
  <dc:subject/>
  <dc:title>McKenneman, Inc. SRAM Proposal</dc:title>
</cp:coreProperties>
</file>